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6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4.wmf" ContentType="image/x-wmf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D2C-1836-4722-B06E-202AB8A2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CAA-C5F2-40CE-9335-4206476B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F9F-054C-4DA7-8AB4-53EB9C5C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939-5B31-4F24-9D81-DA975AFB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75A-B491-4E9B-8068-C6DD91D3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56ED-69A1-4C87-A880-2839A387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8EAB-6DFA-470A-8A31-A6804BD2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C649-E148-48E3-806E-82FFD224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9439-C9C9-4D3F-A4EA-52EAC89C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FF09-636D-41AF-A195-1DDE300F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76F4-D155-48B2-9CB6-36342188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E06-97EC-49D6-8254-ED09BB58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CD5A-68C5-4CAB-B2DE-83D6812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8FC-A5ED-40E0-97B4-5F20569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5339-B2FA-451B-B01B-9F9394B1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E3FE-0A53-4696-B6F4-2F7DAC11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3C7B-B11F-4AD8-93FD-D6937A98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7EB2-6615-4243-BD41-D05DAFE8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B3F6-DE7B-49E3-82C1-4B26A537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E7C7-CB57-4F09-BBFB-E3EBE918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0C29-509F-4AC2-BE5F-3606B740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0785-DD50-44CC-BE4B-F9DC8221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B18-BD1A-48B0-9CA8-7B839655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07BC-EB50-4473-B227-20101140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F968-BAE3-4C53-A785-0419C58C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33CD-53C7-49AC-899E-A06C5BB6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EB50-5FD9-45A2-9858-0FA88352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46BB-FD7B-4420-A483-F0AB0818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3910-53FB-4B2E-BB5D-8CA8223B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E27F-7B02-455B-B4C6-C60E0E8E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F0BD-BF78-42F4-9039-925B27BE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6A36-6E12-4071-A293-5A514F2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25F1-C764-4F1C-BDEE-EEB79FE2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110-42A8-43E6-9CE9-146990F9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8F8F-F49B-4F23-97BC-C2D6B179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5CD0-10DB-48E4-8662-4354BC64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2D5B8-A2DB-4DD1-BA89-84A6AD1C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91A5-E74A-420A-BE72-4F5676DE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8047-D9A1-4F61-844A-EB80D73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C25A-E20B-4993-BEB2-03286C55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7E20-98FC-4481-A2DA-BAFFB18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94E0E-1B2C-494E-ABDB-784C229B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CE5D-37A0-41CC-BC38-82786EC5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9FD90-BE6D-4B70-9AA6-9957660C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AE6-785F-4FB9-8149-82AC98C6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6867-FCE5-486B-AD32-F8288654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AF8A4-F421-49FA-87A3-80B5A62A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9A376-A2C2-4902-BC7D-5E52792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08C82-8A57-47A6-BDCE-E2D900DD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543F-AB72-42CE-A696-FB429DDB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BFBC-E689-4103-8662-8EF4059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C66C0-AA30-427A-8541-0626514A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140F0-43EA-45E4-A995-8727AF34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F61C4-1A5D-4142-A830-7CCC9035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65F1-59E7-4CB5-95AD-AA27B6AB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F99-4145-4C02-A8D6-6EC5570F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13970-033A-47CB-B02A-A3B3AE4D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A398F-6127-44C5-A774-4F8FB1C2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42C92-729A-42E7-91F8-032EE3C9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19918-8415-4B63-B0AD-C8B91EE3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8AC2-D588-45C4-BFA1-77EFA80F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3776F-9A1E-4C15-A719-153D053A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A4B2F-DE6C-4DF2-98DA-1BBB5BF8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0BA9-C1D7-466F-8039-0FC589C1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84DC1-6031-45B7-9EA9-3A435D9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12D84-5685-48EC-BDBA-0FBD24B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492-A3BF-42D6-8553-10A8BAC1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5E939-4A78-4F88-A071-0724F8A0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7C8A1-CDD0-43CE-8F4F-C3ADB880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A8DED-BC9D-44CD-ACA1-117F24EF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76F-060C-4FEE-B544-99E7C5AC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9AA-DF2F-4075-801E-A9028CF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92A-69E4-4336-960B-F5C1C68509E5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E9B5-7F45-442A-8CE6-D689872766EB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5336-B132-4146-ABBE-035643AD7AB1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e7f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6e7f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E905-AA03-4498-BEC6-1A5C03D66282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DA6-ED2A-416C-A40A-5FF7BA60895C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D4AB-187C-493B-845C-B8AA349C0818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108000" y="201600"/>
            <a:ext cx="892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Урок изобразительного искусст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еатральная афиш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C:\Program Files (x86)\Microsoft Office\MEDIA\CAGCAT10\j0216516.wmf"/>
          <p:cNvPicPr/>
          <p:nvPr/>
        </p:nvPicPr>
        <p:blipFill>
          <a:blip r:embed="rId1"/>
          <a:stretch/>
        </p:blipFill>
        <p:spPr>
          <a:xfrm>
            <a:off x="2884320" y="2422440"/>
            <a:ext cx="35593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3640" y="235440"/>
            <a:ext cx="866772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596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Times New Roman"/>
              </a:rPr>
              <a:t>Виды афиш: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театральные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цирковые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музыкальные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афиши кинофильмов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афиши, которые приглашают на выступление выдающихся людей.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8920" y="235440"/>
            <a:ext cx="881244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835280" y="0"/>
            <a:ext cx="539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920" y="154440"/>
            <a:ext cx="8740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2195640" y="0"/>
            <a:ext cx="4897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3640" y="154440"/>
            <a:ext cx="866772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46" name="Рисунок 1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60872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4920" y="154440"/>
            <a:ext cx="859644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41828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8920" y="154440"/>
            <a:ext cx="881244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2109960" y="0"/>
            <a:ext cx="492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280080"/>
            <a:ext cx="854244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2" name="Рисунок 1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Arial"/>
              </a:rPr>
              <a:t>Колобковый шрифт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979640" y="1103400"/>
            <a:ext cx="51292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Arial"/>
              </a:rPr>
              <a:t>Мультяшный шрифт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Arial"/>
              </a:rPr>
              <a:t>Шрифт кирпичиком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8" name="Рисунок 1" descr=""/>
          <p:cNvPicPr/>
          <p:nvPr/>
        </p:nvPicPr>
        <p:blipFill>
          <a:blip r:embed="rId1"/>
          <a:stretch/>
        </p:blipFill>
        <p:spPr>
          <a:xfrm>
            <a:off x="108000" y="1279440"/>
            <a:ext cx="895032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Прямоугольник 3" descr=""/>
          <p:cNvPicPr/>
          <p:nvPr/>
        </p:nvPicPr>
        <p:blipFill>
          <a:blip r:embed="rId1"/>
          <a:stretch/>
        </p:blipFill>
        <p:spPr>
          <a:xfrm>
            <a:off x="1893960" y="-316080"/>
            <a:ext cx="5308560" cy="15973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1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Объект 1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962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4"/>
          <p:cNvSpPr/>
          <p:nvPr/>
        </p:nvSpPr>
        <p:spPr>
          <a:xfrm>
            <a:off x="500040" y="214200"/>
            <a:ext cx="8643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706d"/>
                </a:solidFill>
                <a:latin typeface="Arial"/>
              </a:rPr>
              <a:t>Афиша</a:t>
            </a: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 – графический рекламоноситель, печатается на плотной бумаге или карт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3706d"/>
                </a:solidFill>
                <a:latin typeface="Arial"/>
              </a:rPr>
              <a:t>Афиши</a:t>
            </a: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 расклеивают по улицам го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1116000" y="1676520"/>
            <a:ext cx="6913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857160" y="714240"/>
            <a:ext cx="70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706d"/>
                </a:solidFill>
                <a:latin typeface="Arial"/>
              </a:rPr>
              <a:t>Преимущества</a:t>
            </a: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1.Эффективно информируют жителей города о предстоящем собы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2. Возможность размещения большого количества в разных частях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5" descr=""/>
          <p:cNvPicPr/>
          <p:nvPr/>
        </p:nvPicPr>
        <p:blipFill>
          <a:blip r:embed="rId1"/>
          <a:stretch/>
        </p:blipFill>
        <p:spPr>
          <a:xfrm>
            <a:off x="395280" y="2944800"/>
            <a:ext cx="2436840" cy="345600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6" descr=""/>
          <p:cNvPicPr/>
          <p:nvPr/>
        </p:nvPicPr>
        <p:blipFill>
          <a:blip r:embed="rId2"/>
          <a:stretch/>
        </p:blipFill>
        <p:spPr>
          <a:xfrm>
            <a:off x="3348000" y="2722680"/>
            <a:ext cx="2616120" cy="367344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7" descr=""/>
          <p:cNvPicPr/>
          <p:nvPr/>
        </p:nvPicPr>
        <p:blipFill>
          <a:blip r:embed="rId3"/>
          <a:stretch/>
        </p:blipFill>
        <p:spPr>
          <a:xfrm>
            <a:off x="6372360" y="2892600"/>
            <a:ext cx="248112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137880" cy="1103400"/>
          </a:xfrm>
          <a:prstGeom prst="rect">
            <a:avLst/>
          </a:prstGeom>
          <a:ln w="0">
            <a:noFill/>
          </a:ln>
        </p:spPr>
      </p:pic>
      <p:sp>
        <p:nvSpPr>
          <p:cNvPr id="323" name="Стрелка влево 6"/>
          <p:cNvSpPr/>
          <p:nvPr/>
        </p:nvSpPr>
        <p:spPr>
          <a:xfrm>
            <a:off x="3995640" y="342900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Прямоугольник 8" descr=""/>
          <p:cNvPicPr/>
          <p:nvPr/>
        </p:nvPicPr>
        <p:blipFill>
          <a:blip r:embed="rId2"/>
          <a:stretch/>
        </p:blipFill>
        <p:spPr>
          <a:xfrm>
            <a:off x="4243320" y="4005360"/>
            <a:ext cx="4473720" cy="20113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2" descr=""/>
          <p:cNvPicPr/>
          <p:nvPr/>
        </p:nvPicPr>
        <p:blipFill>
          <a:blip r:embed="rId3"/>
          <a:stretch/>
        </p:blipFill>
        <p:spPr>
          <a:xfrm>
            <a:off x="250920" y="1260360"/>
            <a:ext cx="34639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трелка влево 2"/>
          <p:cNvSpPr/>
          <p:nvPr/>
        </p:nvSpPr>
        <p:spPr>
          <a:xfrm>
            <a:off x="4067280" y="3641760"/>
            <a:ext cx="2309760" cy="5000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Прямоугольник 3" descr=""/>
          <p:cNvPicPr/>
          <p:nvPr/>
        </p:nvPicPr>
        <p:blipFill>
          <a:blip r:embed="rId1"/>
          <a:stretch/>
        </p:blipFill>
        <p:spPr>
          <a:xfrm>
            <a:off x="6278400" y="1639800"/>
            <a:ext cx="390600" cy="93204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5" descr=""/>
          <p:cNvPicPr/>
          <p:nvPr/>
        </p:nvPicPr>
        <p:blipFill>
          <a:blip r:embed="rId2"/>
          <a:stretch/>
        </p:blipFill>
        <p:spPr>
          <a:xfrm>
            <a:off x="6386400" y="3193920"/>
            <a:ext cx="2603520" cy="1189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" descr=""/>
          <p:cNvPicPr/>
          <p:nvPr/>
        </p:nvPicPr>
        <p:blipFill>
          <a:blip r:embed="rId3"/>
          <a:stretch/>
        </p:blipFill>
        <p:spPr>
          <a:xfrm>
            <a:off x="272880" y="1268280"/>
            <a:ext cx="3586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2" descr=""/>
          <p:cNvPicPr/>
          <p:nvPr/>
        </p:nvPicPr>
        <p:blipFill>
          <a:blip r:embed="rId1"/>
          <a:stretch/>
        </p:blipFill>
        <p:spPr>
          <a:xfrm>
            <a:off x="5742000" y="938160"/>
            <a:ext cx="3225960" cy="1189080"/>
          </a:xfrm>
          <a:prstGeom prst="rect">
            <a:avLst/>
          </a:prstGeom>
          <a:ln w="0">
            <a:noFill/>
          </a:ln>
        </p:spPr>
      </p:pic>
      <p:sp>
        <p:nvSpPr>
          <p:cNvPr id="331" name="Стрелка влево 3"/>
          <p:cNvSpPr/>
          <p:nvPr/>
        </p:nvSpPr>
        <p:spPr>
          <a:xfrm>
            <a:off x="4427640" y="2174760"/>
            <a:ext cx="3033720" cy="5716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1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7576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Прямоугольник 2" descr=""/>
          <p:cNvPicPr/>
          <p:nvPr/>
        </p:nvPicPr>
        <p:blipFill>
          <a:blip r:embed="rId1"/>
          <a:stretch/>
        </p:blipFill>
        <p:spPr>
          <a:xfrm>
            <a:off x="-158760" y="79200"/>
            <a:ext cx="6730920" cy="1189080"/>
          </a:xfrm>
          <a:prstGeom prst="rect">
            <a:avLst/>
          </a:prstGeom>
          <a:ln w="0">
            <a:noFill/>
          </a:ln>
        </p:spPr>
      </p:pic>
      <p:sp>
        <p:nvSpPr>
          <p:cNvPr id="334" name="Стрелка вправо 4"/>
          <p:cNvSpPr/>
          <p:nvPr/>
        </p:nvSpPr>
        <p:spPr>
          <a:xfrm>
            <a:off x="1397160" y="2276640"/>
            <a:ext cx="2354040" cy="4284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1" descr=""/>
          <p:cNvPicPr/>
          <p:nvPr/>
        </p:nvPicPr>
        <p:blipFill>
          <a:blip r:embed="rId2"/>
          <a:stretch/>
        </p:blipFill>
        <p:spPr>
          <a:xfrm>
            <a:off x="3851280" y="1216080"/>
            <a:ext cx="367344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3" descr=""/>
          <p:cNvPicPr/>
          <p:nvPr/>
        </p:nvPicPr>
        <p:blipFill>
          <a:blip r:embed="rId1"/>
          <a:stretch/>
        </p:blipFill>
        <p:spPr>
          <a:xfrm>
            <a:off x="-92160" y="-60480"/>
            <a:ext cx="6201000" cy="2011680"/>
          </a:xfrm>
          <a:prstGeom prst="rect">
            <a:avLst/>
          </a:prstGeom>
          <a:ln w="0">
            <a:noFill/>
          </a:ln>
        </p:spPr>
      </p:pic>
      <p:sp>
        <p:nvSpPr>
          <p:cNvPr id="337" name="Стрелка вправо 4"/>
          <p:cNvSpPr/>
          <p:nvPr/>
        </p:nvSpPr>
        <p:spPr>
          <a:xfrm>
            <a:off x="900000" y="3716280"/>
            <a:ext cx="3857760" cy="785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1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52728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42:35Z</dcterms:created>
  <dc:creator>Admin</dc:creator>
  <dc:description/>
  <dc:language>en-US</dc:language>
  <cp:lastModifiedBy>Juli Mars</cp:lastModifiedBy>
  <dcterms:modified xsi:type="dcterms:W3CDTF">2018-10-11T10:30:33Z</dcterms:modified>
  <cp:revision>47</cp:revision>
  <dc:subject/>
  <dc:title>Слайд 1</dc:title>
</cp:coreProperties>
</file>